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4BFA6-C86D-457B-B4B3-5115FC610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32C84-AD3A-4640-98FF-404E607EB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0BFE9-CCCF-45CD-9355-A86A874A5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BF2BF-2DFA-4F08-9DFD-32847D06E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C6494-852A-4D5A-B6CB-F96E1A081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33B58-0866-4D7A-998B-B37731B6A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74C7A-52FA-4FE7-9634-B355D75BA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9F2FB-6FB2-467F-8C40-A208D113A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314F0-EC43-48B5-B3CF-3C64F9B19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A6BBA-E0C4-4C8E-B9BA-1D3551D29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F434D-E51B-4E1F-ADBB-3364B8597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C04CB-D7A2-440B-9118-C2CB7B081B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28047-8CD0-4D2A-8DC0-BC1F90F981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77520" y="-108360"/>
            <a:ext cx="8443800" cy="1220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800" spc="-1" strike="noStrike">
                <a:solidFill>
                  <a:srgbClr val="ffffff"/>
                </a:solidFill>
                <a:latin typeface="Comic Sans MS"/>
              </a:rPr>
              <a:t>Chapters 45-48</a:t>
            </a:r>
            <a:endParaRPr b="0" lang="en-US" sz="12800" spc="-1" strike="noStrike">
              <a:solidFill>
                <a:srgbClr val="000000"/>
              </a:solidFill>
              <a:latin typeface="Times New Roman"/>
            </a:endParaRPr>
          </a:p>
        </p:txBody>
      </p:sp>
      <p:sp>
        <p:nvSpPr>
          <p:cNvPr id="4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Shawn Hines</a:t>
            </a:r>
            <a:endParaRPr b="0" lang="en-US" sz="43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Zack Trunk</a:t>
            </a:r>
            <a:endParaRPr b="0" lang="en-US" sz="43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ill Pearson</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852560" y="-219240"/>
            <a:ext cx="6569280" cy="1853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800" spc="-1" strike="noStrike">
                <a:solidFill>
                  <a:srgbClr val="ffffff"/>
                </a:solidFill>
                <a:latin typeface="Comic Sans MS"/>
              </a:rPr>
              <a:t>Themes</a:t>
            </a:r>
            <a:endParaRPr b="0" lang="en-US" sz="12800" spc="-1" strike="noStrike">
              <a:solidFill>
                <a:srgbClr val="000000"/>
              </a:solidFill>
              <a:latin typeface="Times New Roman"/>
            </a:endParaRPr>
          </a:p>
        </p:txBody>
      </p:sp>
      <p:sp>
        <p:nvSpPr>
          <p:cNvPr id="56" name=""/>
          <p:cNvSpPr/>
          <p:nvPr/>
        </p:nvSpPr>
        <p:spPr>
          <a:xfrm>
            <a:off x="460440" y="1905120"/>
            <a:ext cx="9240840" cy="33570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ffffff"/>
                </a:solidFill>
                <a:uFillTx/>
                <a:latin typeface="Comic Sans MS"/>
              </a:rPr>
              <a:t>The struggle between guilt and innocence</a:t>
            </a:r>
            <a:endParaRPr b="0" lang="en-US" sz="3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Pip is struggling over what is right and what is wrong, he doesn't know if he should stay with Magwitch after he escapes or leave him and let him go by himself.  He also still thinks about Estella and doesn't know if he should pursue her anymore even though she is already marrie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998640" y="317520"/>
            <a:ext cx="8832600" cy="926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Comic Sans MS"/>
              </a:rPr>
              <a:t>Discussion Questions</a:t>
            </a:r>
            <a:endParaRPr b="0" lang="en-US" sz="6400" spc="-1" strike="noStrike">
              <a:solidFill>
                <a:srgbClr val="000000"/>
              </a:solidFill>
              <a:latin typeface="Times New Roman"/>
            </a:endParaRPr>
          </a:p>
        </p:txBody>
      </p:sp>
      <p:sp>
        <p:nvSpPr>
          <p:cNvPr id="58" name=""/>
          <p:cNvSpPr/>
          <p:nvPr/>
        </p:nvSpPr>
        <p:spPr>
          <a:xfrm>
            <a:off x="130320" y="1789200"/>
            <a:ext cx="9793080" cy="2648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4300" spc="-1" strike="noStrike">
                <a:solidFill>
                  <a:srgbClr val="ffffff"/>
                </a:solidFill>
                <a:latin typeface="Comic Sans MS"/>
              </a:rPr>
              <a:t> </a:t>
            </a:r>
            <a:r>
              <a:rPr b="0" lang="en-US" sz="4300" spc="-1" strike="noStrike">
                <a:solidFill>
                  <a:srgbClr val="ffffff"/>
                </a:solidFill>
                <a:latin typeface="Comic Sans MS"/>
              </a:rPr>
              <a:t>If you were Pip, would you choose to be with Magwitch after he escapes or just help him escape? Explain.</a:t>
            </a:r>
            <a:endParaRPr b="0" lang="en-US" sz="4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6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4300" spc="-1" strike="noStrike">
                <a:solidFill>
                  <a:srgbClr val="ffffff"/>
                </a:solidFill>
                <a:latin typeface="Comic Sans MS"/>
              </a:rPr>
              <a:t> </a:t>
            </a:r>
            <a:r>
              <a:rPr b="0" lang="en-US" sz="4300" spc="-1" strike="noStrike">
                <a:solidFill>
                  <a:srgbClr val="ffffff"/>
                </a:solidFill>
                <a:latin typeface="Comic Sans MS"/>
              </a:rPr>
              <a:t>Should Pip keep pursuing Estella even though she is married? Do you think that she could ever truly be in love with Drummle? Why?</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 </a:t>
            </a:r>
            <a:endParaRPr b="0" lang="en-US" sz="4300" spc="-1" strike="noStrike">
              <a:solidFill>
                <a:srgbClr val="000000"/>
              </a:solidFill>
              <a:latin typeface="Times New Roman"/>
            </a:endParaRPr>
          </a:p>
        </p:txBody>
      </p:sp>
      <p:sp>
        <p:nvSpPr>
          <p:cNvPr id="6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4300" spc="-1" strike="noStrike">
                <a:solidFill>
                  <a:srgbClr val="ffffff"/>
                </a:solidFill>
                <a:latin typeface="Comic Sans MS"/>
              </a:rPr>
              <a:t>Why do you think that Compeyson was right behind Pip during the play? Why did he just observe and not do anything?</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 name="" descr=""/>
          <p:cNvPicPr/>
          <p:nvPr/>
        </p:nvPicPr>
        <p:blipFill>
          <a:blip r:embed="rId2"/>
          <a:stretch/>
        </p:blipFill>
        <p:spPr>
          <a:xfrm>
            <a:off x="1946160" y="254160"/>
            <a:ext cx="3557880" cy="761760"/>
          </a:xfrm>
          <a:prstGeom prst="rect">
            <a:avLst/>
          </a:prstGeom>
          <a:ln w="0">
            <a:noFill/>
          </a:ln>
        </p:spPr>
      </p:pic>
      <p:pic>
        <p:nvPicPr>
          <p:cNvPr id="64" name="" descr=""/>
          <p:cNvPicPr/>
          <p:nvPr/>
        </p:nvPicPr>
        <p:blipFill>
          <a:blip r:embed="rId3"/>
          <a:stretch/>
        </p:blipFill>
        <p:spPr>
          <a:xfrm>
            <a:off x="1100160" y="254160"/>
            <a:ext cx="847800" cy="6603840"/>
          </a:xfrm>
          <a:prstGeom prst="rect">
            <a:avLst/>
          </a:prstGeom>
          <a:ln w="0">
            <a:noFill/>
          </a:ln>
        </p:spPr>
      </p:pic>
      <p:pic>
        <p:nvPicPr>
          <p:cNvPr id="65" name="" descr=""/>
          <p:cNvPicPr/>
          <p:nvPr/>
        </p:nvPicPr>
        <p:blipFill>
          <a:blip r:embed="rId4"/>
          <a:stretch/>
        </p:blipFill>
        <p:spPr>
          <a:xfrm>
            <a:off x="0" y="6858000"/>
            <a:ext cx="10159920" cy="762120"/>
          </a:xfrm>
          <a:prstGeom prst="rect">
            <a:avLst/>
          </a:prstGeom>
          <a:ln w="0">
            <a:noFill/>
          </a:ln>
        </p:spPr>
      </p:pic>
      <p:pic>
        <p:nvPicPr>
          <p:cNvPr id="66" name="" descr=""/>
          <p:cNvPicPr/>
          <p:nvPr/>
        </p:nvPicPr>
        <p:blipFill>
          <a:blip r:embed="rId5"/>
          <a:stretch/>
        </p:blipFill>
        <p:spPr>
          <a:xfrm>
            <a:off x="4740120" y="1015920"/>
            <a:ext cx="763920" cy="101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
          <p:cNvSpPr/>
          <p:nvPr/>
        </p:nvSpPr>
        <p:spPr>
          <a:xfrm>
            <a:off x="203040" y="190440"/>
            <a:ext cx="9747360" cy="5092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Summary: Chapter 45</a:t>
            </a:r>
            <a:br>
              <a:rPr sz="3200"/>
            </a:br>
            <a:r>
              <a:rPr b="0" lang="en-US" sz="3200" spc="-1" strike="noStrike">
                <a:solidFill>
                  <a:srgbClr val="ffffff"/>
                </a:solidFill>
                <a:latin typeface="Comic Sans MS"/>
              </a:rPr>
              <a:t>After recieving the note from Wemmick informing Pip not to go home, he spends the night at the Hummums in Convent Garden.  After spending a long night there barely able to recieve any sleep, he heads directly to Wemmick's house to find out what is going on.  Pip is then told that his house has been noticed being watched and that Compeyson is in London.  Wemmick then tells Pip that Magwitch is safe at the moment because Herbert has hidden him at Clara's ho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112680" y="152280"/>
            <a:ext cx="9793440" cy="5452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Comic Sans MS"/>
              </a:rPr>
              <a:t>Summary: Chapter 46</a:t>
            </a:r>
            <a:endParaRPr b="0" lang="en-US" sz="2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mic Sans MS"/>
              </a:rPr>
              <a:t> </a:t>
            </a:r>
            <a:r>
              <a:rPr b="0" lang="en-US" sz="2900" spc="-1" strike="noStrike">
                <a:solidFill>
                  <a:srgbClr val="ffffff"/>
                </a:solidFill>
                <a:latin typeface="Comic Sans MS"/>
              </a:rPr>
              <a:t>Pip travels to Clara's house to check on Provis.  Clara's father (Bill Barley) is a drunkerd who ends up growling and making a lot of noise upstairs during all of Pip's visit.  When Pip sees Provis he makes sure not to speak anything of Compeyson to make sure Provis doesn't try to go after him.  Pip has recently begun to be more concerned for Magwithch's safety.  Herbert then comes up with the idea that Pip should purchase a row boat.  Pip agrees with the idea, purchases the row boat, and practices with Herbert so that when the time comes that they need to move Magwitch, it will not arouse suspicion.</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54080" y="241200"/>
            <a:ext cx="9752040" cy="70916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Times New Roman'"/>
              </a:rPr>
              <a:t>Summary: Chapter 47</a:t>
            </a:r>
            <a:endParaRPr b="0" lang="en-US" sz="35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imes New Roman'"/>
              </a:rPr>
              <a:t>Pip continues to refuse to use his benefactor's money now that he knows that it is Magwitch.  Pip also attempts to not be informed in any way of Estella and her situation.  He fears that she is married but he holds on to a slight shred of hope that she isn't.  This is why he doesn't want to know of any evidence of her possibly becoming a Mrs. Bentley Drummle.  Pip then goes to the theater in an attempt to relax.  After the performance Pip speaks with Mr. Wopsle who tells him that Compeyson was sitting directly behind Pip throughout the entire performance.  Pip becomes more cautious and then hurries to tell Herbert and Wemmick.</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162000" y="203040"/>
            <a:ext cx="97884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
        <p:nvSpPr>
          <p:cNvPr id="47" name=""/>
          <p:cNvSpPr/>
          <p:nvPr/>
        </p:nvSpPr>
        <p:spPr>
          <a:xfrm>
            <a:off x="154080" y="241200"/>
            <a:ext cx="9752040" cy="64818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0000"/>
                </a:solidFill>
                <a:latin typeface="'Times New Roman'"/>
              </a:rPr>
              <a:t> </a:t>
            </a:r>
            <a:r>
              <a:rPr b="0" lang="en-US" sz="3200" spc="-1" strike="noStrike">
                <a:solidFill>
                  <a:srgbClr val="ff0000"/>
                </a:solidFill>
                <a:latin typeface="'Times New Roman'"/>
              </a:rPr>
              <a:t>Summary: Chapter 48</a:t>
            </a:r>
            <a:br>
              <a:rPr sz="2700"/>
            </a:br>
            <a:r>
              <a:rPr b="0" lang="en-US" sz="3200" spc="-1" strike="noStrike">
                <a:solidFill>
                  <a:srgbClr val="f3f3f3"/>
                </a:solidFill>
                <a:latin typeface="'Times New Roman'"/>
              </a:rPr>
              <a:t>Wemmick and Pip are both invited to dine with Mr. Jaggers.  Wemmick then gives Pip a note from Miss Havisham requesting him to meet with her immediately.  Pip is also informed of Estella's definate marriage to Drummle.  Throughout dinner Pip begins noticing Molly (Jagger's house keeper) more and more.  He then realizes that she must be related to Estella through her  eyes and the way her hands moved as if she were knitting.  After dinner Pip walks home with Wemmick and asks about Molly.  He then is told that Jaggers defended her when she was accused of killing a women and a daughter.  Pip then puts the pieces together and figures out that the lost daugther must be Estel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What Happens to Pip?</a:t>
            </a:r>
            <a:endParaRPr b="0" lang="en-US" sz="4300" spc="-1" strike="noStrike">
              <a:solidFill>
                <a:srgbClr val="000000"/>
              </a:solidFill>
              <a:latin typeface="Times New Roman"/>
            </a:endParaRPr>
          </a:p>
        </p:txBody>
      </p:sp>
      <p:sp>
        <p:nvSpPr>
          <p:cNvPr id="49" name="PlaceHolder 2"/>
          <p:cNvSpPr>
            <a:spLocks noGrp="1"/>
          </p:cNvSpPr>
          <p:nvPr>
            <p:ph/>
          </p:nvPr>
        </p:nvSpPr>
        <p:spPr>
          <a:xfrm>
            <a:off x="249120" y="1601640"/>
            <a:ext cx="9661680" cy="54914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In these chapters Pip refuses to use Magwitch's money after he finds out that he is his benefactor.  Pip also isn't sure whether or not he should continue to be see Magwitch.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Pip also is still thinking about Estella and if she is already married to Drummle or not. Another thing Pip is thinking about is if Estella is really Molly's lost daughter after he sees Moll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r>
              <a:rPr b="0" lang="en-US" sz="2700" spc="-1" strike="noStrike">
                <a:solidFill>
                  <a:srgbClr val="ffffff"/>
                </a:solidFill>
                <a:latin typeface="Comic Sans MS"/>
              </a:rPr>
              <a:t>Throughout these chapters Pip is also beginning to be paranoid all of the time because he is worried about Magwitch's safety and of Compeyson's arrival in Londo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1819440" y="184320"/>
            <a:ext cx="6300720" cy="7675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ffffff"/>
                </a:solidFill>
                <a:latin typeface="Comic Sans MS"/>
              </a:rPr>
              <a:t>Literary Terms  </a:t>
            </a:r>
            <a:endParaRPr b="0" lang="en-US" sz="5300" spc="-1" strike="noStrike">
              <a:solidFill>
                <a:srgbClr val="000000"/>
              </a:solidFill>
              <a:latin typeface="Times New Roman"/>
            </a:endParaRPr>
          </a:p>
        </p:txBody>
      </p:sp>
      <p:sp>
        <p:nvSpPr>
          <p:cNvPr id="51" name=""/>
          <p:cNvSpPr/>
          <p:nvPr/>
        </p:nvSpPr>
        <p:spPr>
          <a:xfrm>
            <a:off x="1173240" y="1778040"/>
            <a:ext cx="7915320" cy="35157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Comic Sans MS"/>
              </a:rPr>
              <a:t>Imagery</a:t>
            </a:r>
            <a:r>
              <a:rPr b="0" lang="en-US" sz="2700" spc="-1" strike="noStrike">
                <a:solidFill>
                  <a:srgbClr val="ffffff"/>
                </a:solidFill>
                <a:latin typeface="Comic Sans MS"/>
              </a:rPr>
              <a:t> pg. 347- It matters not what stranded ships repairing in dry docks... many rope-walks that were not the Old Green Copper.</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Comic Sans MS"/>
              </a:rPr>
              <a:t>Simile</a:t>
            </a:r>
            <a:r>
              <a:rPr b="0" lang="en-US" sz="2700" spc="-1" strike="noStrike">
                <a:solidFill>
                  <a:srgbClr val="ffffff"/>
                </a:solidFill>
                <a:latin typeface="Comic Sans MS"/>
              </a:rPr>
              <a:t> pg. 349- ...as if a giant with a wooden leg were trying to bore it through the ceiling to come at us.</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Comic Sans MS"/>
              </a:rPr>
              <a:t>Alliteration</a:t>
            </a:r>
            <a:r>
              <a:rPr b="0" lang="en-US" sz="2700" spc="-1" strike="noStrike">
                <a:solidFill>
                  <a:srgbClr val="ffffff"/>
                </a:solidFill>
                <a:latin typeface="Comic Sans MS"/>
              </a:rPr>
              <a:t> pg. 353- ...going swiftly, silently, and surely...</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Comic Sans MS"/>
              </a:rPr>
              <a:t>New Characters</a:t>
            </a:r>
            <a:br>
              <a:rPr sz="4300"/>
            </a:br>
            <a:r>
              <a:rPr b="0" lang="en-US" sz="4300" spc="-1" strike="noStrike">
                <a:solidFill>
                  <a:srgbClr val="ffffff"/>
                </a:solidFill>
                <a:latin typeface="Comic Sans MS"/>
              </a:rPr>
              <a:t>and New Info. on Old Characters</a:t>
            </a:r>
            <a:endParaRPr b="0" lang="en-US" sz="4300" spc="-1" strike="noStrike">
              <a:solidFill>
                <a:srgbClr val="000000"/>
              </a:solidFill>
              <a:latin typeface="Times New Roman"/>
            </a:endParaRPr>
          </a:p>
        </p:txBody>
      </p:sp>
      <p:sp>
        <p:nvSpPr>
          <p:cNvPr id="53" name="PlaceHolder 2"/>
          <p:cNvSpPr>
            <a:spLocks noGrp="1"/>
          </p:cNvSpPr>
          <p:nvPr>
            <p:ph/>
          </p:nvPr>
        </p:nvSpPr>
        <p:spPr>
          <a:xfrm>
            <a:off x="214200" y="2300040"/>
            <a:ext cx="9663120" cy="5491080"/>
          </a:xfrm>
          <a:prstGeom prst="rect">
            <a:avLst/>
          </a:prstGeom>
          <a:noFill/>
          <a:ln w="0">
            <a:noFill/>
          </a:ln>
        </p:spPr>
        <p:txBody>
          <a:bodyPr lIns="0" rIns="0" tIns="0" bIns="0" anchor="t">
            <a:normAutofit/>
          </a:bodyPr>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h. 46-</a:t>
            </a:r>
            <a:r>
              <a:rPr b="0" lang="en-US" sz="2700" spc="-1" strike="noStrike" u="sng">
                <a:solidFill>
                  <a:srgbClr val="ffffff"/>
                </a:solidFill>
                <a:uFillTx/>
                <a:latin typeface="Comic Sans MS"/>
              </a:rPr>
              <a:t>Bill Barley</a:t>
            </a:r>
            <a:r>
              <a:rPr b="0" lang="en-US" sz="2700" spc="-1" strike="noStrike">
                <a:solidFill>
                  <a:srgbClr val="ffffff"/>
                </a:solidFill>
                <a:latin typeface="Comic Sans MS"/>
              </a:rPr>
              <a:t>- Clara's father, Pip meets him at Clara's house and he is a drunk who makes a lot of noise during Pip's visit with Magwitch and Herbert.</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h. 46-</a:t>
            </a:r>
            <a:r>
              <a:rPr b="0" lang="en-US" sz="2700" spc="-1" strike="noStrike" u="sng">
                <a:solidFill>
                  <a:srgbClr val="ffffff"/>
                </a:solidFill>
                <a:uFillTx/>
                <a:latin typeface="Comic Sans MS"/>
              </a:rPr>
              <a:t>Mr. Campell</a:t>
            </a:r>
            <a:r>
              <a:rPr b="0" lang="en-US" sz="2700" spc="-1" strike="noStrike">
                <a:solidFill>
                  <a:srgbClr val="ffffff"/>
                </a:solidFill>
                <a:latin typeface="Comic Sans MS"/>
              </a:rPr>
              <a:t>- Magwitch's new identity was created to keep him hidden and under the radar.</a:t>
            </a:r>
            <a:endParaRPr b="0" lang="en-US" sz="2700" spc="-1" strike="noStrike">
              <a:solidFill>
                <a:srgbClr val="000000"/>
              </a:solidFill>
              <a:latin typeface="Times New Roman"/>
            </a:endParaRPr>
          </a:p>
          <a:p>
            <a:pPr lvl="1" marL="457200" indent="-342720">
              <a:lnSpc>
                <a:spcPct val="95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Ch. 48-</a:t>
            </a:r>
            <a:r>
              <a:rPr b="0" lang="en-US" sz="2700" spc="-1" strike="noStrike" u="sng">
                <a:solidFill>
                  <a:srgbClr val="ffffff"/>
                </a:solidFill>
                <a:uFillTx/>
                <a:latin typeface="Comic Sans MS"/>
              </a:rPr>
              <a:t>Molly</a:t>
            </a:r>
            <a:r>
              <a:rPr b="0" lang="en-US" sz="2700" spc="-1" strike="noStrike">
                <a:solidFill>
                  <a:srgbClr val="ffffff"/>
                </a:solidFill>
                <a:latin typeface="Comic Sans MS"/>
              </a:rPr>
              <a:t>- Pip finds out that Molly is Estella's mother.  Also she was accused of murdering her daughter and another woma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233280" y="214200"/>
            <a:ext cx="10474200" cy="556020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800" spc="-1" strike="noStrike">
                <a:solidFill>
                  <a:srgbClr val="ffffff"/>
                </a:solidFill>
                <a:latin typeface="Comic Sans MS"/>
              </a:rPr>
              <a:t>Do you have any questions?</a:t>
            </a:r>
            <a:endParaRPr b="0" lang="en-US" sz="1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